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63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A28C8FBE-21C4-4F71-A774-25B2908410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6BC4DF0A-3282-4E3D-922B-DDE657C648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4F57B31C-379B-4780-AB43-E4C48396B9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51913003-71B3-4091-85C8-603E974E11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CFEE9A27-7C22-42F4-B122-15B8ADDD1D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E7103-D725-409F-9E2A-8D8D7718B5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E0457-B1D3-4343-B2D4-C60228DB3E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E1317-7FFC-46A2-9AC7-CD2D22532A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6088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456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6088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456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2D009-3E80-48F5-B139-8FAC0018B2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1B507-81C3-47FE-8B38-DDFDE4AAB0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FA505-069D-46B6-9F98-67295AA7E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A5B16-2D9E-4D5C-BBD4-AE3F70A57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8C11F-0C1D-4CFB-82B0-4C8484B83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82FA1-1E2E-4987-AD9E-FDAEA71D5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6335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D15DE-B5BA-4E74-90B2-8BB339041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9C7E2-AD6D-4B12-902E-18BA87401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5BD9D-FB0E-403C-91A7-4017633458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8BCEE-0EB9-4186-8D7D-398DCFDAE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BF5F4-B4B3-428C-A1A1-AC0FBDDC4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7B375-31B0-4159-A171-8A05C33C8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0566F-E74E-46EF-BC8A-F9237009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6088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6456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6088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6456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0EDEE-E74A-4A40-A360-3D9B3F0110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A8D73-3AA3-4871-BC36-A852560310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FEF15-92FA-41F8-88B5-6423AE90B1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E7016-E1A8-4877-9FA9-871FBA8C4B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6335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4D974-F522-4AB1-BD85-F3F478E732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4B7A1-6FB5-4A91-AABE-C74798245E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16D58-969E-4661-8656-46C5A7FE49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7C0A3-4E79-417F-8795-CA398E69EA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0" y="0"/>
            <a:ext cx="9144000" cy="632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6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00646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0064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0064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C6D36-EBAE-4B77-814D-134BA056A30B}" type="slidenum">
              <a:rPr b="0" lang="fr-B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27" descr="EENRD_EN"/>
          <p:cNvPicPr/>
          <p:nvPr/>
        </p:nvPicPr>
        <p:blipFill>
          <a:blip r:embed="rId2"/>
          <a:stretch/>
        </p:blipFill>
        <p:spPr>
          <a:xfrm>
            <a:off x="6553080" y="237960"/>
            <a:ext cx="2181240" cy="676440"/>
          </a:xfrm>
          <a:prstGeom prst="rect">
            <a:avLst/>
          </a:prstGeom>
          <a:ln w="0">
            <a:noFill/>
          </a:ln>
        </p:spPr>
      </p:pic>
      <p:sp>
        <p:nvSpPr>
          <p:cNvPr id="5" name="Rectangle 29"/>
          <p:cNvSpPr/>
          <p:nvPr/>
        </p:nvSpPr>
        <p:spPr>
          <a:xfrm>
            <a:off x="3348000" y="6381720"/>
            <a:ext cx="259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valuation Expert Committee 3rd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468360" y="6432480"/>
            <a:ext cx="13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07 Dec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9144000" cy="632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2" descr="EENRD_EN"/>
          <p:cNvPicPr/>
          <p:nvPr/>
        </p:nvPicPr>
        <p:blipFill>
          <a:blip r:embed="rId2"/>
          <a:stretch/>
        </p:blipFill>
        <p:spPr>
          <a:xfrm>
            <a:off x="6553080" y="237960"/>
            <a:ext cx="2181240" cy="676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9" descr="arbre32"/>
          <p:cNvPicPr/>
          <p:nvPr/>
        </p:nvPicPr>
        <p:blipFill>
          <a:blip r:embed="rId3"/>
          <a:stretch/>
        </p:blipFill>
        <p:spPr>
          <a:xfrm>
            <a:off x="0" y="2724120"/>
            <a:ext cx="5311800" cy="35784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1"/>
          <p:cNvSpPr/>
          <p:nvPr/>
        </p:nvSpPr>
        <p:spPr>
          <a:xfrm>
            <a:off x="3348000" y="6381720"/>
            <a:ext cx="259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valuation Expert Committee 3rd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6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00646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0064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0064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655272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3"/>
          </p:nvPr>
        </p:nvSpPr>
        <p:spPr>
          <a:xfrm>
            <a:off x="468360" y="6381360"/>
            <a:ext cx="2209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 Dec.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5840" y="1714680"/>
            <a:ext cx="850104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Methodological approaches for capturing the impact of Leader and of measures to improve quality of life in rural areas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900000" y="4292640"/>
            <a:ext cx="745992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pt and process of the Thematic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ICHAEL HEGA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elpdesk Team L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6868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83720" indent="-3402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ludes a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closing work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3720" indent="-340200">
              <a:spcBef>
                <a:spcPts val="601"/>
              </a:spcBef>
              <a:buClr>
                <a:srgbClr val="0066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Concluding drafting activiti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or the gui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3720" indent="-3402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ation to the </a:t>
            </a:r>
            <a:r>
              <a:rPr b="0" lang="pl-PL" sz="2400" spc="-1" strike="noStrike">
                <a:solidFill>
                  <a:srgbClr val="006666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xpert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3720" indent="-340200">
              <a:spcBef>
                <a:spcPts val="601"/>
              </a:spcBef>
              <a:buClr>
                <a:srgbClr val="0066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Fine-tun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Working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3720" indent="-340200">
              <a:spcBef>
                <a:spcPts val="601"/>
              </a:spcBef>
              <a:buClr>
                <a:srgbClr val="0066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Dissemin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definition of relevant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follow-up activiti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help make the guidance more operational to Member Sta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8225C-271B-4DB5-9FE0-6F86E7B1FE54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itel 1"/>
          <p:cNvSpPr/>
          <p:nvPr/>
        </p:nvSpPr>
        <p:spPr>
          <a:xfrm>
            <a:off x="0" y="0"/>
            <a:ext cx="6265800" cy="11253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d9"/>
                </a:solidFill>
                <a:latin typeface="Arial"/>
              </a:rPr>
              <a:t>STEP 3: VALIDATION &amp; FINAL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221000"/>
            <a:ext cx="8893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Timeline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) </a:t>
            </a:r>
            <a:r>
              <a:rPr b="0" lang="pl-PL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finalisation workshop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, May 18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i) 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finalisation drafting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of Working Paper 3 (WP3), May 26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ii) presentation of WP3 to 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Expert Committee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, early Jun</a:t>
            </a:r>
            <a:r>
              <a:rPr b="0" lang="pl-PL" sz="2000" spc="-1" strike="noStrike">
                <a:solidFill>
                  <a:srgbClr val="006463"/>
                </a:solidFill>
                <a:latin typeface="Arial"/>
                <a:ea typeface="Arial"/>
              </a:rPr>
              <a:t>e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v) Fine-tuning and dissemination of guidance and 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definition of </a:t>
            </a:r>
            <a:br>
              <a:rPr sz="2000"/>
            </a:br>
            <a:r>
              <a:rPr b="1" lang="pl-PL" sz="2000" spc="-1" strike="noStrike">
                <a:solidFill>
                  <a:srgbClr val="006463"/>
                </a:solidFill>
                <a:latin typeface="Arial"/>
                <a:ea typeface="Arial"/>
              </a:rPr>
              <a:t>     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follow-up activities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, end Jun</a:t>
            </a:r>
            <a:r>
              <a:rPr b="0" lang="pl-PL" sz="2000" spc="-1" strike="noStrike">
                <a:solidFill>
                  <a:srgbClr val="006463"/>
                </a:solidFill>
                <a:latin typeface="Arial"/>
                <a:ea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6463"/>
                </a:solidFill>
                <a:latin typeface="Arial"/>
              </a:rPr>
              <a:t>Thank you for your attention!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2781360"/>
            <a:ext cx="5311800" cy="3578040"/>
          </a:xfrm>
          <a:prstGeom prst="rect">
            <a:avLst/>
          </a:prstGeom>
          <a:ln w="0">
            <a:noFill/>
          </a:ln>
        </p:spPr>
      </p:pic>
      <p:sp>
        <p:nvSpPr>
          <p:cNvPr id="127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22459-DAE8-4E65-916B-63F1A375882C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46AB3-C6EB-460F-A0B3-5F191CFFEA0D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itel 1"/>
          <p:cNvSpPr/>
          <p:nvPr/>
        </p:nvSpPr>
        <p:spPr>
          <a:xfrm>
            <a:off x="0" y="0"/>
            <a:ext cx="6516720" cy="1197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463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ffffd9"/>
                </a:solidFill>
                <a:latin typeface="Arial"/>
              </a:rPr>
              <a:t>CONTENT OF THE 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Inhaltsplatzhalter 2"/>
          <p:cNvSpPr/>
          <p:nvPr/>
        </p:nvSpPr>
        <p:spPr>
          <a:xfrm>
            <a:off x="395280" y="1628640"/>
            <a:ext cx="8229600" cy="38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ber States’ needs for methodological guid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llenges in assessing impacts for Leader and Quality of Life (axes 3 &amp;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hematic working group (TWG) proc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Objectives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expected results, proposed methods, 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8C677-E1D9-4626-9CC7-51B00239A063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Inhaltsplatzhalter 2"/>
          <p:cNvSpPr/>
          <p:nvPr/>
        </p:nvSpPr>
        <p:spPr>
          <a:xfrm>
            <a:off x="395280" y="1484280"/>
            <a:ext cx="813744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eds assessment conducted throug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ocus Groups (2008 &amp; 2009) in Member States (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issions to 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eetings / other contacts with evaluation community from 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itel 1"/>
          <p:cNvSpPr/>
          <p:nvPr/>
        </p:nvSpPr>
        <p:spPr>
          <a:xfrm>
            <a:off x="0" y="0"/>
            <a:ext cx="6265800" cy="11253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d9"/>
                </a:solidFill>
                <a:latin typeface="Arial"/>
              </a:rPr>
              <a:t>MEMBER STATES’ NEEDS FOR METHODOLOGICAL GUIDANC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69131-5E84-49DF-B968-6B28F411B2C1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Inhaltsplatzhalter 2"/>
          <p:cNvSpPr/>
          <p:nvPr/>
        </p:nvSpPr>
        <p:spPr>
          <a:xfrm>
            <a:off x="468360" y="1557360"/>
            <a:ext cx="82296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in findings of needs assessment for evaluation of impacts of axes 3 &amp; 4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300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veloping adequate definitions, criteria and indicators for LEADER and Quality of Life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ackling the qualitative nature of the effec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dentifying contributions of small-scale interven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sessing the stimulation of cultural change through L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isentangle Leader effects from deadweight, double counting, displacement and other intervention policies (viz. counterfactu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volving beneficiaries in the evaluation process (reliable data, active participation in the evaluation proc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itel 1"/>
          <p:cNvSpPr/>
          <p:nvPr/>
        </p:nvSpPr>
        <p:spPr>
          <a:xfrm>
            <a:off x="0" y="0"/>
            <a:ext cx="6265800" cy="11253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d9"/>
                </a:solidFill>
                <a:latin typeface="Arial"/>
              </a:rPr>
              <a:t>MEMBER STATES’ NEEDS FOR METHODOLOGICAL GUIDANC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686800" cy="47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in current identified challenges (draft Concept Note) complementing needs assess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38880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Common Evaluation Question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re challenging – assessing effects of the Leader approach, and contribution to improved quality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38880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ssing the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“double scope” of Lead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process and produ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38880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ry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little guidance in CME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although some previous experience from Leader II &amp; Leader+, &amp; Quality of Life 2000-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38880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ader+ stressed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“structuring a common evaluation strateg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t all levels…&amp; should follow an overall bottom-up approach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38880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Gaps in evaluator specialisa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contextual knowledge, experi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38880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aling with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diffuse distribution of effec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 terms of time, geography, community and n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38880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MEF requirements estimating impact at: a)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local leve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; and b) contribution to general trend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at programm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itel 1"/>
          <p:cNvSpPr/>
          <p:nvPr/>
        </p:nvSpPr>
        <p:spPr>
          <a:xfrm>
            <a:off x="0" y="0"/>
            <a:ext cx="6265800" cy="11253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d9"/>
                </a:solidFill>
                <a:latin typeface="Arial"/>
              </a:rPr>
              <a:t>CHALLENGES IN ASSESSING IMPACTS OF LEADER AND QUALITY OF LIFE (2007-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9B9DA-1A9F-42C1-BE00-CF3410192FD5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tel 1"/>
          <p:cNvSpPr/>
          <p:nvPr/>
        </p:nvSpPr>
        <p:spPr>
          <a:xfrm>
            <a:off x="0" y="0"/>
            <a:ext cx="6265800" cy="11253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d9"/>
                </a:solidFill>
                <a:latin typeface="Arial"/>
              </a:rPr>
              <a:t>THE THEMATIC WORKING GROUP PROCESS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686800" cy="47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510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provide practical methodological guidance in assessing the impacts of Leader and measures to improve the Quality of Life through rural development programm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cte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510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guidance document describing state-of-the-art and current/good evaluation practice and complementary tools, to suppo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16080" indent="-228600">
              <a:spcBef>
                <a:spcPts val="451"/>
              </a:spcBef>
              <a:buClr>
                <a:srgbClr val="006463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463"/>
                </a:solidFill>
                <a:latin typeface="Arial"/>
              </a:rPr>
              <a:t>programme evaluators/MAs to make use of </a:t>
            </a:r>
            <a:r>
              <a:rPr b="1" lang="en-GB" sz="1800" spc="-1" strike="noStrike">
                <a:solidFill>
                  <a:srgbClr val="006463"/>
                </a:solidFill>
                <a:latin typeface="Arial"/>
              </a:rPr>
              <a:t>optimal approaches to rural development evaluation</a:t>
            </a:r>
            <a:r>
              <a:rPr b="0" lang="en-GB" sz="1800" spc="-1" strike="noStrike">
                <a:solidFill>
                  <a:srgbClr val="006463"/>
                </a:solidFill>
                <a:latin typeface="Arial"/>
              </a:rPr>
              <a:t> and …..</a:t>
            </a:r>
            <a:endParaRPr b="0" lang="en-US" sz="1800" spc="-1" strike="noStrike">
              <a:solidFill>
                <a:srgbClr val="006463"/>
              </a:solidFill>
              <a:latin typeface="Arial"/>
            </a:endParaRPr>
          </a:p>
          <a:p>
            <a:pPr lvl="2" marL="1216080" indent="-228600">
              <a:spcBef>
                <a:spcPts val="451"/>
              </a:spcBef>
              <a:buClr>
                <a:srgbClr val="006463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463"/>
                </a:solidFill>
                <a:latin typeface="Arial"/>
              </a:rPr>
              <a:t>to </a:t>
            </a:r>
            <a:r>
              <a:rPr b="1" lang="en-GB" sz="1800" spc="-1" strike="noStrike">
                <a:solidFill>
                  <a:srgbClr val="006463"/>
                </a:solidFill>
                <a:latin typeface="Arial"/>
              </a:rPr>
              <a:t>select appropriate evaluation methods and tools</a:t>
            </a:r>
            <a:endParaRPr b="0" lang="en-US" sz="1800" spc="-1" strike="noStrike">
              <a:solidFill>
                <a:srgbClr val="006463"/>
              </a:solidFill>
              <a:latin typeface="Arial"/>
            </a:endParaRPr>
          </a:p>
          <a:p>
            <a:pPr lvl="2" marL="1216080" indent="-228600">
              <a:spcBef>
                <a:spcPts val="451"/>
              </a:spcBef>
              <a:buClr>
                <a:srgbClr val="006463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463"/>
                </a:solidFill>
                <a:latin typeface="Arial"/>
              </a:rPr>
              <a:t>development of </a:t>
            </a:r>
            <a:r>
              <a:rPr b="1" lang="en-GB" sz="1800" spc="-1" strike="noStrike">
                <a:solidFill>
                  <a:srgbClr val="006463"/>
                </a:solidFill>
                <a:latin typeface="Arial"/>
              </a:rPr>
              <a:t>convergent methods of RDP evaluation</a:t>
            </a:r>
            <a:r>
              <a:rPr b="0" lang="en-GB" sz="1800" spc="-1" strike="noStrike">
                <a:solidFill>
                  <a:srgbClr val="006463"/>
                </a:solidFill>
                <a:latin typeface="Arial"/>
              </a:rPr>
              <a:t> at EU-level</a:t>
            </a:r>
            <a:endParaRPr b="0" lang="en-US" sz="18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064BF-2B80-49BA-BA5D-8920BF5AE45F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itel 1"/>
          <p:cNvSpPr/>
          <p:nvPr/>
        </p:nvSpPr>
        <p:spPr>
          <a:xfrm>
            <a:off x="0" y="0"/>
            <a:ext cx="6265800" cy="11253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d9"/>
                </a:solidFill>
                <a:latin typeface="Arial"/>
              </a:rPr>
              <a:t>THE THEMATIC WORKING GROUP PROCESS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9640" y="1484280"/>
            <a:ext cx="77774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3-step proces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raf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Validation and final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itel 1"/>
          <p:cNvSpPr/>
          <p:nvPr/>
        </p:nvSpPr>
        <p:spPr>
          <a:xfrm>
            <a:off x="0" y="0"/>
            <a:ext cx="6265800" cy="11253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d9"/>
                </a:solidFill>
                <a:latin typeface="Arial"/>
              </a:rPr>
              <a:t>STEP 1: 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686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1360" indent="-441360">
              <a:spcBef>
                <a:spcPts val="601"/>
              </a:spcBef>
              <a:buClr>
                <a:srgbClr val="0066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initiat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TWG pro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alising the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Concept No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athering and reviewing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current evaluation practi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state-of-the-ar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Leader and Quality o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mal kick-off of the process through a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workshop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C2FE0-9367-4BC3-BF86-4031B65F4078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716280"/>
            <a:ext cx="889308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6463"/>
                </a:solidFill>
                <a:uFillTx/>
                <a:latin typeface="Arial"/>
                <a:ea typeface="Arial"/>
              </a:rPr>
              <a:t>Timeline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) </a:t>
            </a:r>
            <a:r>
              <a:rPr b="0" lang="pl-PL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draft Concept Note, Nov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i) questionnaire survey of 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current practice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in MS, by Dec 18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ii) 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document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drafted on current practice in MS, by Jan 1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v) </a:t>
            </a:r>
            <a:r>
              <a:rPr b="0" lang="pl-PL" sz="2000" spc="-1" strike="noStrike">
                <a:solidFill>
                  <a:srgbClr val="006463"/>
                </a:solidFill>
                <a:latin typeface="Arial"/>
                <a:ea typeface="Arial"/>
              </a:rPr>
              <a:t>d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ocument drafted on </a:t>
            </a:r>
            <a:r>
              <a:rPr b="1" lang="en-GB" sz="2000" spc="-1" strike="noStrike">
                <a:solidFill>
                  <a:srgbClr val="006666"/>
                </a:solidFill>
                <a:latin typeface="Arial"/>
                <a:ea typeface="Arial"/>
              </a:rPr>
              <a:t>state-of-the-art practices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, by Jan 1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v) 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TWG composition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confirmed, by Jan 1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vi) launch of TWG through 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workshop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n Brussels, Jan 26 (or 2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686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activity develops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draft working paper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luding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state-of-the-ar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aluation methods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incorporation of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detailed current practi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specific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evaluation challeng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 Member State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awing also on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global exper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E87A-8678-4300-95F9-FC23A1644C6D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itel 1"/>
          <p:cNvSpPr/>
          <p:nvPr/>
        </p:nvSpPr>
        <p:spPr>
          <a:xfrm>
            <a:off x="0" y="0"/>
            <a:ext cx="6265800" cy="11253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d9"/>
                </a:solidFill>
                <a:latin typeface="Arial"/>
              </a:rPr>
              <a:t>STEP 2: DRAF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3716280"/>
            <a:ext cx="874872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6463"/>
                </a:solidFill>
                <a:uFillTx/>
                <a:latin typeface="Arial"/>
                <a:ea typeface="Arial"/>
              </a:rPr>
              <a:t>Timeline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) </a:t>
            </a:r>
            <a:r>
              <a:rPr b="0" lang="pl-PL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draft Working Paper 1 (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WP1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), Mar. 4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i) workshop in MS, bringing forward detailed current practic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6463"/>
                </a:solidFill>
                <a:latin typeface="Arial"/>
                <a:ea typeface="Arial"/>
              </a:rPr>
              <a:t>    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Mar 22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ii) revised draft Working Paper 2 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(WP2), sent to MS, Apr.16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v) 2nd workshop in MS (if required) for 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further current practice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6463"/>
                </a:solidFill>
                <a:latin typeface="Arial"/>
                <a:ea typeface="Arial"/>
              </a:rPr>
              <a:t>    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Apr 29 → incorporated into Working Paper 3 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(WP3), May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23:27Z</dcterms:created>
  <dc:creator>AEIDL</dc:creator>
  <dc:description/>
  <dc:language>en-US</dc:language>
  <cp:lastModifiedBy>zaoujjo</cp:lastModifiedBy>
  <cp:lastPrinted>2008-05-30T14:18:28Z</cp:lastPrinted>
  <dcterms:modified xsi:type="dcterms:W3CDTF">2009-12-08T08:32:23Z</dcterms:modified>
  <cp:revision>454</cp:revision>
  <dc:subject/>
  <dc:title>EENRD presentation</dc:title>
</cp:coreProperties>
</file>